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01A-715E-48AC-AB04-45D0224A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708-E707-4E6E-B2FE-11D01079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BC0-2FF1-4491-819D-33C3B1DC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4A9-AE1B-4160-A971-05817759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4C86-933A-43C7-AD44-6A5AE57F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2542-C4A9-48B2-851F-F1E35936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6967-0028-4D86-AA4B-97499D68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C505-9D99-4390-9548-41117575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3BC4-A2F2-4C04-BE82-95C36D87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0DEC-2D67-43C1-965A-2BCA2652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F370-61BE-4976-A4C7-E0A7424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692-73CA-4ABC-87E3-69CE6C72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46EE-D2DB-46A0-B887-6EFC819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FFF3-8A19-4C6E-83B2-431D5283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9FDB-BF21-436C-9D44-109AA852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920C-06DA-49A4-A14A-D71ACE9B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B1BD-3966-40ED-B1C0-A7D5D28C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76C-9C2B-4D70-916B-8A108CD7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F58-564E-44C0-A231-42F79F40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590-E065-40A7-AA0F-BCB24E09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502-A0D5-45CB-9905-4FF9D41B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935-7EAD-4DC8-98A9-85EB3D94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9BD-954C-4BE7-B88E-1AC8CA33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555-3C05-482E-AA4A-9D318F5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B566-F227-479D-A984-CEF470ABA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731E-7AC3-484E-A158-A3697C8B8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Finding Circumference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 4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5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ndrea Kl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Circum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rcumference is the distance all the way around a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quation to find circumference is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ltiplied by the diameter of the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Object 6"/>
          <p:cNvGraphicFramePr/>
          <p:nvPr/>
        </p:nvGraphicFramePr>
        <p:xfrm>
          <a:off x="3657600" y="4267080"/>
          <a:ext cx="213372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267080"/>
                    <a:ext cx="213372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me Terms Defin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said as pie, like the kind you 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3.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 is the radius of a circ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half the distance across a 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 is the diameter of a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the distance all the way across a cir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two radii adde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Object 1028"/>
          <p:cNvGraphicFramePr/>
          <p:nvPr/>
        </p:nvGraphicFramePr>
        <p:xfrm>
          <a:off x="1828800" y="4952880"/>
          <a:ext cx="175248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952880"/>
                    <a:ext cx="17524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029"/>
          <p:cNvGraphicFramePr/>
          <p:nvPr/>
        </p:nvGraphicFramePr>
        <p:xfrm>
          <a:off x="5029200" y="5029200"/>
          <a:ext cx="1676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502920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Find Circum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have the radi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 the radius by 2 to get the diam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 this answer by 3.14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have the diamet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 the diameter by 3.14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t’s Try A Probl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iameter or the rad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going to find the rad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radius of this circ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895480" y="3809880"/>
          <a:ext cx="2492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09880"/>
                    <a:ext cx="2492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Continu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us is 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multiply the radius by 2 to get the diam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, multiply the diameter b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3.1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3048120" y="3352680"/>
          <a:ext cx="3504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352680"/>
                    <a:ext cx="3504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5"/>
          <p:cNvGraphicFramePr/>
          <p:nvPr/>
        </p:nvGraphicFramePr>
        <p:xfrm>
          <a:off x="2133720" y="5257800"/>
          <a:ext cx="5486400" cy="8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5257800"/>
                    <a:ext cx="5486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Solv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ircumference of the circle is 31.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819520" y="2895480"/>
          <a:ext cx="300816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95480"/>
                    <a:ext cx="30081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e’s Another Probl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circumference of this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590920" y="2666880"/>
          <a:ext cx="3429000" cy="32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666880"/>
                    <a:ext cx="3429000" cy="32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ameter is 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y the diameter b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3.1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ircumference is 18.8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743200" y="2590920"/>
          <a:ext cx="3657600" cy="8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36576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"/>
          <p:cNvGraphicFramePr/>
          <p:nvPr/>
        </p:nvGraphicFramePr>
        <p:xfrm>
          <a:off x="1752480" y="4495680"/>
          <a:ext cx="632484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495680"/>
                    <a:ext cx="632484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2:23:54Z</dcterms:created>
  <dc:creator>Registered User</dc:creator>
  <dc:description/>
  <dc:language>en-US</dc:language>
  <cp:lastModifiedBy> </cp:lastModifiedBy>
  <dcterms:modified xsi:type="dcterms:W3CDTF">2010-07-22T13:41:34Z</dcterms:modified>
  <cp:revision>16</cp:revision>
  <dc:subject/>
  <dc:title>Finding Circumference for 5th and 6th Grade</dc:title>
</cp:coreProperties>
</file>